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F8B-B938-450B-84FB-BE8D7934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D85-88AB-439C-A205-71544C58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6B8-0E05-4C54-BD2F-5F5A9B53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E8E-01C3-4E95-AF64-1C5E72D0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EB4-763B-4165-A960-1B0F5A73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F41-825D-4134-B045-40C3818D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2C5-A15D-4F6B-813E-BA8E3621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E32-3812-4FC6-BA1D-D50128B0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595-5AEA-4DDA-A5C3-A1F4B04C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DE4-E208-4884-BFD2-29D7A56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0CC-2556-44C1-9121-9A098C20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32F-D1B1-4301-A6DF-B62B842E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E0BC-2C9B-42DC-9FAB-AC77EEC33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37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flipV="1">
            <a:off x="2590920" y="2971800"/>
            <a:ext cx="1295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2057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y destin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3352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ource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151920" y="151920"/>
            <a:ext cx="350532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5909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user function in the Full.vee that I want to read data 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514240" y="2666520"/>
            <a:ext cx="10666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80880" y="761760"/>
            <a:ext cx="533520" cy="4343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116680"/>
            <a:ext cx="7848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this is the user function that I have created  in the blowp.vee to read data from the user function  “check” that does exist in theFull.ve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at I tried to make set variable inside the check and Get variable in my new user function to continue but it doesn’t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3:01:10Z</dcterms:created>
  <dc:creator>za04499</dc:creator>
  <dc:description/>
  <dc:language>en-US</dc:language>
  <cp:lastModifiedBy>za04499</cp:lastModifiedBy>
  <dcterms:modified xsi:type="dcterms:W3CDTF">2009-02-02T13:03:31Z</dcterms:modified>
  <cp:revision>3</cp:revision>
  <dc:subject/>
  <dc:title>Slide 1</dc:title>
</cp:coreProperties>
</file>