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DB8-28E2-4BE8-8B23-8D4C5E37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D94-2BF3-4C85-9D7A-C6B9917C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F89-9DFB-4753-9F5E-FCA744B1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333-4410-499B-9641-9571A2B8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81D-7425-4D58-B582-46E8ECE9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17B-857F-46E4-A97C-77DF2184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B81-0237-42F7-A9E0-DC46BECA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7DE-85BA-4670-BE77-9BFB81F2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490-ADDE-4C7C-87CD-55D4F4EE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156-C2B7-4A5F-8078-EF26D6E1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E0A-61CC-4D9F-ACF3-00CB0D55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188-BE6F-43DE-AE60-118F3523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73AF-275C-456F-BF0C-4E57EE2E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-1204920"/>
            <a:ext cx="8686800" cy="828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40:37Z</dcterms:created>
  <dc:creator>usb09202</dc:creator>
  <dc:description/>
  <dc:language>en-US</dc:language>
  <cp:lastModifiedBy>usb09202</cp:lastModifiedBy>
  <dcterms:modified xsi:type="dcterms:W3CDTF">2009-12-02T19:41:14Z</dcterms:modified>
  <cp:revision>1</cp:revision>
  <dc:subject/>
  <dc:title>Slide 1</dc:title>
</cp:coreProperties>
</file>