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40E-3A08-4F97-B917-1DE3920F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A0C-E8D3-406A-8964-E03DCB8A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E4F-BFEB-4599-B2F1-5E1E92EF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228-020C-46AF-9093-79B0A3EF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F2B-0F91-43CC-9A81-38ACE0F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D78-933B-4008-B560-D30B8D6E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FB8-6AAB-4658-B7DC-06FF55C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753-B94C-41BD-91D3-1068A56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E02-4151-4A63-A936-D7C3953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E4E-7484-40E9-955F-8137B7A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C1B-12F6-48E2-A0E1-F0A3412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8A3-8D6C-4271-8152-2554793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898E-0DFF-426F-9E82-4E656E797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152280"/>
          <a:ext cx="526896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52689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4876920"/>
          <a:ext cx="5095800" cy="40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50958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1:44:51Z</dcterms:created>
  <dc:creator>TEMIC</dc:creator>
  <dc:description/>
  <dc:language>en-US</dc:language>
  <cp:lastModifiedBy>TEMIC</cp:lastModifiedBy>
  <dcterms:modified xsi:type="dcterms:W3CDTF">2003-03-28T11:45:30Z</dcterms:modified>
  <cp:revision>1</cp:revision>
  <dc:subject/>
  <dc:title>PowerPoint Presentation</dc:title>
</cp:coreProperties>
</file>